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11598-2166-4A2A-A210-B8FB8CD8D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C3125-9BB1-425C-9B56-9B6E32E71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160AD-6260-4AFE-B478-3670B82D8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A6F22-46C5-4586-8177-F0FDD4E75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B9F23-F25B-4A91-B94A-31FAE05A9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CD98A-9FB2-469E-9473-9D2B821DA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2AC3B-5A9A-46A6-A7A1-9FB52A253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F7076-CB12-4D42-B64D-BA402C9FB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56CE5-0A0B-4C80-87B1-CD47D514C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A99E9-E261-4ED8-BA13-79D439951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FCD2F-94B0-4A35-B9E7-A7120327C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DBFC5-E533-42C8-856A-7EC531E57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655A9-4228-4C1B-A31F-B9EACD799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D2D40-58BE-4437-A195-9B24F815C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CA564-7306-4B5F-98DD-B0055C4A6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7182B-9503-4C65-B715-CAB10D2DB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E906F-51A3-4CBD-9E53-FE953D7FA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84C27-DDE2-4ABF-AE89-95AC55A90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0D52A-A1AD-43A2-B097-518F9C47E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C0085-7748-4F9D-91CB-9DD369733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B45F6-8ECB-4261-B05E-96A0273C8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6579D-EBE8-4580-B018-D5DBF8144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858D3-FF7D-49FA-9225-56601F725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BF486-34A4-4024-95B6-22F69EC38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6BB2-747E-4378-80B9-4E1334DB5CD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7745-C1FC-4B74-B193-0439CB1AD92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Verdana"/>
              </a:rPr>
              <a:t>The Heimlich Maneuver</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Verdana"/>
              </a:rPr>
              <a:t>by James Brown</a:t>
            </a:r>
            <a:endParaRPr b="0" lang="en-US" sz="36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nine</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derstand that your thrusts make the diaphragm move air out of the victim's lungs, creating a kind of artificial cough.</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ten</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eep a firm grip on the victim, since he or she can lose consciousness and fall to the ground if the Heimlich maneuver is not effective </a:t>
            </a:r>
            <a:endParaRPr b="0" lang="en-US" sz="3000" spc="-1" strike="noStrike">
              <a:solidFill>
                <a:srgbClr val="000000"/>
              </a:solidFill>
              <a:latin typeface="Verdana"/>
            </a:endParaRPr>
          </a:p>
        </p:txBody>
      </p:sp>
      <p:pic>
        <p:nvPicPr>
          <p:cNvPr id="112" name="" descr=""/>
          <p:cNvPicPr/>
          <p:nvPr/>
        </p:nvPicPr>
        <p:blipFill>
          <a:blip r:embed="rId2"/>
          <a:stretch/>
        </p:blipFill>
        <p:spPr>
          <a:xfrm>
            <a:off x="6095880" y="3124080"/>
            <a:ext cx="3048120" cy="3048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Verdana"/>
              </a:rPr>
              <a:t>INFO.</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Every year about 3,000 adults die because they accidentally inhale rather than swallow food. The food gets stuck and blocks their trachea, making breathing impossible. Death follows rapidly unless the food or other foreign material can be displaced from the airway. This condition is so common it has been nicknamed the "cafe coronary."</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on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sk the choking person to stand if he or she is sitt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Two</a:t>
            </a:r>
            <a:endParaRPr b="0" lang="en-US" sz="3800" spc="-1" strike="noStrike">
              <a:solidFill>
                <a:srgbClr val="000000"/>
              </a:solidFill>
              <a:latin typeface="Verdana"/>
            </a:endParaRPr>
          </a:p>
        </p:txBody>
      </p:sp>
      <p:sp>
        <p:nvSpPr>
          <p:cNvPr id="90" name="PlaceHolder 2"/>
          <p:cNvSpPr>
            <a:spLocks noGrp="1"/>
          </p:cNvSpPr>
          <p:nvPr>
            <p:ph/>
          </p:nvPr>
        </p:nvSpPr>
        <p:spPr>
          <a:xfrm>
            <a:off x="228240" y="2133720"/>
            <a:ext cx="8001000" cy="411480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33"/>
                </a:solidFill>
                <a:latin typeface="Verdana"/>
              </a:rPr>
              <a:t>Place yourself slightly behind the standing victim. </a:t>
            </a:r>
            <a:endParaRPr b="0" lang="en-US" sz="3000" spc="-1" strike="noStrike">
              <a:solidFill>
                <a:srgbClr val="000000"/>
              </a:solidFill>
              <a:latin typeface="Verdana"/>
            </a:endParaRPr>
          </a:p>
        </p:txBody>
      </p:sp>
      <p:pic>
        <p:nvPicPr>
          <p:cNvPr id="91" name="" descr=""/>
          <p:cNvPicPr/>
          <p:nvPr/>
        </p:nvPicPr>
        <p:blipFill>
          <a:blip r:embed="rId2"/>
          <a:stretch/>
        </p:blipFill>
        <p:spPr>
          <a:xfrm>
            <a:off x="4267080" y="2895480"/>
            <a:ext cx="3333960" cy="29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three</a:t>
            </a: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assure the victim that you know the Heimlich maneuver and are going to help.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four</a:t>
            </a: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00"/>
                </a:solidFill>
                <a:latin typeface="Verdana"/>
              </a:rPr>
              <a:t>Place your arms around the victim's waist. </a:t>
            </a:r>
            <a:endParaRPr b="0" lang="en-US" sz="3000" spc="-1" strike="noStrike">
              <a:solidFill>
                <a:srgbClr val="000000"/>
              </a:solidFill>
              <a:latin typeface="Verdana"/>
            </a:endParaRPr>
          </a:p>
        </p:txBody>
      </p:sp>
      <p:pic>
        <p:nvPicPr>
          <p:cNvPr id="96" name="" descr=""/>
          <p:cNvPicPr/>
          <p:nvPr/>
        </p:nvPicPr>
        <p:blipFill>
          <a:blip r:embed="rId2"/>
          <a:stretch/>
        </p:blipFill>
        <p:spPr>
          <a:xfrm>
            <a:off x="2438280" y="2971800"/>
            <a:ext cx="3333960" cy="238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five</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ke a fist with one hand and place your thumb toward the victim, just above his or her belly button </a:t>
            </a:r>
            <a:endParaRPr b="0" lang="en-US" sz="3000" spc="-1" strike="noStrike">
              <a:solidFill>
                <a:srgbClr val="000000"/>
              </a:solidFill>
              <a:latin typeface="Verdana"/>
            </a:endParaRPr>
          </a:p>
        </p:txBody>
      </p:sp>
      <p:pic>
        <p:nvPicPr>
          <p:cNvPr id="99" name="" descr=""/>
          <p:cNvPicPr/>
          <p:nvPr/>
        </p:nvPicPr>
        <p:blipFill>
          <a:blip r:embed="rId2"/>
          <a:stretch/>
        </p:blipFill>
        <p:spPr>
          <a:xfrm>
            <a:off x="2971800" y="3581280"/>
            <a:ext cx="3333600" cy="238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six</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ab your fist with your other hand. </a:t>
            </a:r>
            <a:endParaRPr b="0" lang="en-US" sz="3000" spc="-1" strike="noStrike">
              <a:solidFill>
                <a:srgbClr val="000000"/>
              </a:solidFill>
              <a:latin typeface="Verdana"/>
            </a:endParaRPr>
          </a:p>
        </p:txBody>
      </p:sp>
      <p:pic>
        <p:nvPicPr>
          <p:cNvPr id="102" name="" descr=""/>
          <p:cNvPicPr/>
          <p:nvPr/>
        </p:nvPicPr>
        <p:blipFill>
          <a:blip r:embed="rId2"/>
          <a:stretch/>
        </p:blipFill>
        <p:spPr>
          <a:xfrm>
            <a:off x="2895480" y="2666880"/>
            <a:ext cx="3333960" cy="238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seven</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liver five upward squeeze-thrusts into the abdomen. </a:t>
            </a:r>
            <a:endParaRPr b="0" lang="en-US" sz="3000" spc="-1" strike="noStrike">
              <a:solidFill>
                <a:srgbClr val="000000"/>
              </a:solidFill>
              <a:latin typeface="Verdana"/>
            </a:endParaRPr>
          </a:p>
        </p:txBody>
      </p:sp>
      <p:pic>
        <p:nvPicPr>
          <p:cNvPr id="105" name="" descr=""/>
          <p:cNvPicPr/>
          <p:nvPr/>
        </p:nvPicPr>
        <p:blipFill>
          <a:blip r:embed="rId2"/>
          <a:stretch/>
        </p:blipFill>
        <p:spPr>
          <a:xfrm>
            <a:off x="2590920" y="3276720"/>
            <a:ext cx="3333600" cy="238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ep eight</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ke each squeeze-thrust strong enough to dislodge a foreign body.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15:48:36Z</dcterms:created>
  <dc:creator>762703</dc:creator>
  <dc:description/>
  <dc:language>en-US</dc:language>
  <cp:lastModifiedBy>762703</cp:lastModifiedBy>
  <dcterms:modified xsi:type="dcterms:W3CDTF">2008-10-31T15:17:52Z</dcterms:modified>
  <cp:revision>3</cp:revision>
  <dc:subject/>
  <dc:title>The Heimlich Maneuver</dc:title>
</cp:coreProperties>
</file>